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D32-DA74-409E-97DE-1E2B4C3C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484-D9E7-4EED-B6B8-EF2F8739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234-07A6-458E-86FC-6DE275F2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4A7-7D0F-4706-B172-FF7A8C26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29FF-E72C-4F4A-A6A0-6B305CC5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C509-5879-4596-8DA0-0D4A086F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768B-954F-47EB-9A56-C2C5E9BA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ECCA-9944-4ECF-ABD8-8926DBFC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6A1C-28CE-460E-98C6-36A12F7C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5D33-704B-4D28-9F0B-51E73A2D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EB82-55E5-4C35-86F5-7DCE6E59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29F-32A0-41DF-AAA9-4DC0598C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4EC0-12C6-42FC-9332-337B5724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23C9-8428-4550-92E2-C276CD3F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0405-14A9-454A-96AB-81F11712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4217-8800-4758-A985-A2C00D1D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B4FC-CC07-467E-BDA9-EA0CA924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A77-D175-4347-9FD2-3E1AE29D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D1E-6188-485C-861E-0BD418A1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C16-1671-4497-8D27-168C1983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AE4-FE7F-4FD8-B7BE-32F24D0C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853-E325-4CA5-AF09-CD33A244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75B-165A-4E20-A7C1-BA40DAA9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BB1-8AE4-42A6-BA91-BB2F3C64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19EE-E874-4B10-90C9-F7364948E535}" type="slidenum">
              <a:rPr b="1" lang="ro-RO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o-RO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3848-EE84-4B85-8624-F38546F6A11E}" type="slidenum">
              <a:rPr b="1" lang="ro-RO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ipuri de relatii </a:t>
            </a:r>
            <a:r>
              <a:rPr b="1" lang="ro-RO" sz="3600" spc="-1" strike="noStrike">
                <a:solidFill>
                  <a:srgbClr val="003366"/>
                </a:solidFill>
                <a:latin typeface="Arial"/>
              </a:rPr>
              <a:t>î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tre entitatii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-M, arce</a:t>
            </a:r>
            <a:r>
              <a:rPr b="1" lang="ro-RO" sz="3600" spc="-1" strike="noStrike">
                <a:solidFill>
                  <a:srgbClr val="003366"/>
                </a:solidFill>
                <a:latin typeface="Arial"/>
              </a:rPr>
              <a:t>, relatii barate, recursive, etc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4508640"/>
            <a:ext cx="41148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ALIZA C.R.U.D.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ro-RO" sz="3200" spc="-1" strike="noStrike">
                <a:solidFill>
                  <a:srgbClr val="99cc99"/>
                </a:solidFill>
                <a:latin typeface="Arial"/>
              </a:rPr>
              <a:t>C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reate, </a:t>
            </a:r>
            <a:r>
              <a:rPr b="1" lang="ro-RO" sz="3200" spc="-1" strike="noStrike">
                <a:solidFill>
                  <a:srgbClr val="99cc99"/>
                </a:solidFill>
                <a:latin typeface="Arial"/>
              </a:rPr>
              <a:t>R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etrieve, </a:t>
            </a:r>
            <a:r>
              <a:rPr b="1" lang="ro-RO" sz="3200" spc="-1" strike="noStrike">
                <a:solidFill>
                  <a:srgbClr val="99cc99"/>
                </a:solidFill>
                <a:latin typeface="Arial"/>
              </a:rPr>
              <a:t>U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pdate, </a:t>
            </a:r>
            <a:r>
              <a:rPr b="1" lang="ro-RO" sz="3200" spc="-1" strike="noStrike">
                <a:solidFill>
                  <a:srgbClr val="99cc99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elete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Prin analiza CRUD identificăm cerinţele 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creare, regăsire, actualizare şi ştergere a datel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naliza CRUD ne ajută să observăm dac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m omis ceva din mod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m inclus în model ceva ce nu trebui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um se realizează analiza CRUD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5280" y="2361960"/>
            <a:ext cx="87487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Urmărim în interviurile cu clientul sau în descrierile activităţilor, cuvintele care exprimă cele 4 operaţii: creare, regăsire, actualizare, şterge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acă există cerinţe pentru care nu există date, s-ar putea ca modelul să fie incomple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acă există date asupra cărora nu se efectuează nici una dintre operaţiile CRUD, atunci acestea nu sunt necesare pentru aface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6420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DENTIFICATOR UN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Identificatorul unic poate fi format di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 valoare, sa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 combinaţie de valo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şi permite utilizatorului să identifice în mod unic o anumită instanţ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Atunci când un UID este alcătuit dintr-un singur atribut, se numeşte </a:t>
            </a:r>
            <a:r>
              <a:rPr b="0" lang="ro-RO" sz="2400" spc="-1" strike="noStrike">
                <a:solidFill>
                  <a:srgbClr val="99cc99"/>
                </a:solidFill>
                <a:latin typeface="Arial"/>
              </a:rPr>
              <a:t>simplu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acă un UID este alcătuit dintr-o combinaţie de atribute, se numeşte </a:t>
            </a:r>
            <a:r>
              <a:rPr b="0" lang="ro-RO" sz="2400" spc="-1" strike="noStrike">
                <a:solidFill>
                  <a:srgbClr val="99cc99"/>
                </a:solidFill>
                <a:latin typeface="Arial"/>
              </a:rPr>
              <a:t>compus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Un UID creat special pentru a numerota unic fiecare instanţă se numeşte </a:t>
            </a:r>
            <a:r>
              <a:rPr b="0" lang="ro-RO" sz="2400" spc="-1" strike="noStrike">
                <a:solidFill>
                  <a:srgbClr val="99cc99"/>
                </a:solidFill>
                <a:latin typeface="Arial"/>
              </a:rPr>
              <a:t>artificial.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038560" y="4653000"/>
            <a:ext cx="410544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504036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83170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UID rezultat dintr-o relaţie barat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Uneori UID este o combinaţie dintre un atribut şi o relaţi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Care este UID-ul entităţii ACCOUN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 transferurile bancare se transmit întotdeauna atât contul clientului cât şi cel al bănci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Atunci când un UID este o combinaţie între un atribut şi o relaţie barată putem considera că UID-ul este alcătuit dintr-un atribut şi UID-ul celeilalte entităţi din relaţi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241800" y="2708280"/>
            <a:ext cx="49305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227628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În cazul unei entităţi de intersecţie UID poate fi o combinaţie a UID ale entităţilor care se aflau iniţial în relaţia M:M. Aceasta se reprezintă în diagramă prin bararea relaţiilo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003640" y="2276640"/>
            <a:ext cx="387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ot exista mai mulţi U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unul este ales ca UID primar (ex. student ID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ceilalţi UID sunt numiţi secundar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În exemplul alăturat prima entitate are un UID secundar, a doua entitate are doi: 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badge number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, identificator unic secundar simplu si </a:t>
            </a:r>
            <a:r>
              <a:rPr b="0" lang="ro-RO" sz="2400" spc="-1" strike="noStrike">
                <a:solidFill>
                  <a:srgbClr val="006666"/>
                </a:solidFill>
                <a:latin typeface="Arial"/>
              </a:rPr>
              <a:t>first name, last name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, identificator unic secundar compu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6022800" y="765000"/>
            <a:ext cx="258156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IZ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Normalizarea se referă la procesul de creare a unei structuri relaţionale eficiente, flexibile care aşează fiecare dată într-un singur loc, care este şi cel mai potrivit loc, astfel încât operaţiile de adăugare, modificare, ştergere să se facă într-un singur tabe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Un astfel de model va respecta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LEXIBILITATEA DATE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Datele vor fi pastrate în locul cel mai bun şi vor putea fi vizualizate în diverse felur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INTEGRITATEA DATE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Normalizarea asigură integritatea datelor în operaţii de ştergere, adăugare, actualiza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FICIENŢ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Nu vor exista date redundante. Se va face economie de spaţi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ZOLVAREA RELA</a:t>
            </a: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ILOR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ANY TO MAN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 vedere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implementării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zice a modelului conceptual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, este important ca relaţiile 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y to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y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să fie rezolva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tr-o rel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e M:M exist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l pu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un atribut care descrie rel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â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d a treia entitate, numit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ntitate de intersec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e, se creaz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n loc pentru acel atribu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MA FORMA DE NORMALIZ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UN ATRIBUT NU POATE  AVEA VALORI CARE SE REPET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116000" y="3141720"/>
            <a:ext cx="6840720" cy="129528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03160" y="765000"/>
            <a:ext cx="55692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rciţi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nalizaţi entităţile de mai jos şi decideţi dacă respectă prima formă de normaliza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777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 A II-a DE NORMALIZ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ORICE ATRIBUT CE NU E UID SĂ DEPINDĂ DE ÎNTREGUL U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Se aplică în mod special entităţilor care au un UID compus din mai multe atribute sau dintr-un attribut şi o relaţ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116000" y="2852640"/>
            <a:ext cx="6048360" cy="11527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49687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cest exemplu respecta forma 2 de normaliza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În acest ERD, bank_location depinde numai de bancă, nu şi de contul persoanei şi astfel încalcă Forma de Normalizare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5205240" y="2421000"/>
            <a:ext cx="3903840" cy="992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8512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00"/>
                </a:solidFill>
                <a:latin typeface="Arial"/>
              </a:rPr>
              <a:t>Durata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depinde numai de SO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00"/>
                </a:solidFill>
                <a:latin typeface="Arial"/>
              </a:rPr>
              <a:t>Event_date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depinde numai de eveni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5756400" y="2500200"/>
            <a:ext cx="319860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 A III-a DE NORMALIZ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666699"/>
                </a:solidFill>
                <a:latin typeface="Arial"/>
              </a:rPr>
              <a:t>UN ATRIBUT CE NU E UID NU TREBUIE SĂ DEPINDĂ DE ALT ATRIBUT NON-UI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16000" y="3213000"/>
            <a:ext cx="7488360" cy="11527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61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În acest exemplu, </a:t>
            </a:r>
            <a:r>
              <a:rPr b="0" lang="ro-RO" sz="2800" spc="-1" strike="noStrike">
                <a:solidFill>
                  <a:srgbClr val="33cccc"/>
                </a:solidFill>
                <a:latin typeface="Arial"/>
              </a:rPr>
              <a:t>store adress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depinde de </a:t>
            </a:r>
            <a:r>
              <a:rPr b="0" lang="ro-RO" sz="2800" spc="-1" strike="noStrike">
                <a:solidFill>
                  <a:srgbClr val="33cccc"/>
                </a:solidFill>
                <a:latin typeface="Arial"/>
              </a:rPr>
              <a:t>store name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oluţia acestei probleme este să creăm o nouă entitate, STORE, care va conţine cele două atribu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093080" y="2308320"/>
            <a:ext cx="1757160" cy="1942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5651640" y="5067360"/>
            <a:ext cx="34192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082520" y="2674800"/>
            <a:ext cx="2514960" cy="381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cccc"/>
                </a:solidFill>
                <a:latin typeface="Arial"/>
              </a:rPr>
              <a:t>state flower</a:t>
            </a:r>
            <a:br>
              <a:rPr sz="2000"/>
            </a:b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depinde de</a:t>
            </a:r>
            <a:br>
              <a:rPr sz="2000"/>
            </a:br>
            <a:r>
              <a:rPr b="1" lang="ro-RO" sz="2000" spc="-1" strike="noStrike">
                <a:solidFill>
                  <a:srgbClr val="33cccc"/>
                </a:solidFill>
                <a:latin typeface="Arial"/>
              </a:rPr>
              <a:t>state</a:t>
            </a:r>
            <a:br>
              <a:rPr sz="2000"/>
            </a:b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şi nu de oraş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o-RO" sz="2000" spc="-1" strike="noStrike">
                <a:solidFill>
                  <a:srgbClr val="006666"/>
                </a:solidFill>
                <a:latin typeface="Arial"/>
              </a:rPr>
              <a:t>Soluţia este să creăm o nouă entitate STATE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113360" y="2349360"/>
            <a:ext cx="3267000" cy="43434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9"/>
          <p:cNvSpPr/>
          <p:nvPr/>
        </p:nvSpPr>
        <p:spPr>
          <a:xfrm>
            <a:off x="762120" y="76212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u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2361960"/>
            <a:ext cx="8207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Orice afacere are restricţii ce pot fi aplicate valorilor unor atribute sau asupra relaţiilor dintre entităţi. Acestea se numesc CONSTRÂNGER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RCele sunt un mod de a reprezenta relaţiile mutual exclusive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6666"/>
                </a:solidFill>
                <a:latin typeface="Arial"/>
              </a:rPr>
              <a:t>pentru fiecare instanţă numai una dintre relaţii este validă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e crează entitatea de legatur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e crează noile relaţ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e dau nume acestor relaţi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Daca e cazul, se adaugă atribute în entitatea de legătur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e crează un UID pentru entitatea de intersecţi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2361960"/>
            <a:ext cx="496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Pe un panou publicitar pot aparea la un moment dat ori un film, ori o reclama, ori un anunţ publ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5429160" y="2349360"/>
            <a:ext cx="37148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7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Fiecare eveniment se poate desfăşura fie într-un mediu privat fie într-un mediu publi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629320" y="2421000"/>
            <a:ext cx="30956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64800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rcele pot fi modelate şi c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ubtipuri şi supertipur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Când se doreşte să se reprezinte o clasificare se folosesc subtipuri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Folsim arce atunci când dor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ă reprezentăm relaţiile mu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exclusive dintre entităţ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6012000" y="2543040"/>
            <a:ext cx="30985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ERARHII, RELAT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În viaţa de zi cu zi întâlnim adesea modele organizate în ierarhii cum ar f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scheme organizaţional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reprezentarea unor structuri fizic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arbori genealogic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MODELE IERARHIC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332000" y="2432160"/>
            <a:ext cx="5472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Model organizaţ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58006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MODEL IERARHIC D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089000" y="2349360"/>
            <a:ext cx="62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MODEL IERARHIC D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484000" y="2361960"/>
            <a:ext cx="6659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UID al camerei este id-ul camere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Camera este situată în apartament (SUIT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care se află la un anumit etaj (FLOO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care se află în clădire (BUILDING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UID-ul apartamentului dintr-un hotel este format d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ID-ul etajului şi ID-ul apartamentului din cadrul etajulu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UID-ul unui sir de entităţi ierarhice se poate propaga prin relaţii multiple</a:t>
            </a:r>
            <a:r>
              <a:rPr b="0" lang="ro-RO" sz="2000" spc="-1" strike="noStrike">
                <a:solidFill>
                  <a:srgbClr val="003366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17049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RELAŢII RECURSI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4000" y="23623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O relaţie recursivă este o relaţie între o entitate şi ea însăş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Exemplu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ecare angajat (EMPLOYEE) poate fi condus de unul şi numai unul dintre angajaţi (EMPLOYE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ecare angajat (EMPLOYEE) poate fi şeful (managerul) unuia sau mai mulţi angajaţi (EMPLOYE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084720" y="3068640"/>
            <a:ext cx="2848320" cy="22003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755640" y="2421000"/>
            <a:ext cx="5184720" cy="9367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614760" y="692280"/>
            <a:ext cx="4905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Exempl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5904000" cy="442764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Relaţie recursivă Many to Ma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8360" y="236232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Pentru o fabrică de automobile putem considera: părti elementare, componente şi produ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O astfel de situaţie poate fi modelată astfe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ecare componentă poate fi o parte a uneia sau mai multor compon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Fiecare componentă poate fi făcută din una sau mai multe componen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2987640" y="3429000"/>
            <a:ext cx="24004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FARSITUL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PRIMEI ZILE DE CUR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74872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845964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4963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83883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6694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8:23:08Z</dcterms:created>
  <dc:creator>Laura</dc:creator>
  <dc:description/>
  <dc:language>en-US</dc:language>
  <cp:lastModifiedBy>Mihaela</cp:lastModifiedBy>
  <dcterms:modified xsi:type="dcterms:W3CDTF">2014-10-06T16:03:35Z</dcterms:modified>
  <cp:revision>48</cp:revision>
  <dc:subject/>
  <dc:title>ORACLE  - ZIUA 1</dc:title>
</cp:coreProperties>
</file>